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CCDE8-8E1E-457C-A454-14DDB51897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B2767-B814-45A5-BC47-5EBA9CA6F9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F511F-40C9-4B53-948A-87280B33E4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10625-598C-4D09-A7D9-A18E2DADE2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91D5F-C875-4E53-9D75-F572BAD086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275AE-B63A-417F-954B-FE55303D94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29815-C280-4A64-BA33-BA7B8B121D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9404B-5EAE-44E6-B151-4E32F8999D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2E7FE-7791-4A31-9FC7-3389A68339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4069C-C8F4-4FEF-8D28-C5E48C3DF3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FE396-B764-46E8-B467-EEEB802C30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7E41C-09D1-4D70-83CD-EB4A2723FD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700F0-88FD-419A-9492-93036C05CE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0E359-FB4E-412B-ADC5-CE50998F8C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97E99-8171-4DBA-9C9A-61CB6C861E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5FD51-DF74-400A-AAEF-3D4CF927A0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752FF-05DD-4C2D-9240-35ABA89C27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C0AC7-BF06-4F89-9A6E-4816F3F0CD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97B0F-FB66-462A-A3EA-7A6ABDB886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5C281-0D39-4A53-ADBD-DA11AE8AF7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944CE-B2C5-4F51-B8B4-0FFA532286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50258-D13E-4F54-9CB1-C5875B2AD4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6A912-8F99-46B8-A01E-E3C3E04E12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AF2A0-8848-476C-B91A-2509AA0D86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8628C-CA74-49BC-94BD-92C5649E00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99EB116-7B76-4BE5-82A3-5DAF5482C3E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635F7D0-5E79-44C6-A071-227F83DE1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9CCB7685-8F7A-457E-A325-ED3C68C450DD}"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646A6E49-18C5-4819-AEC1-CD2FDCD4D984}"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8C692B28-622E-4E5C-92CA-C3845129110F}"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20E719B2-6E38-4C6E-92FB-68562B475CDC}"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3A8A2B3E-3AD3-495C-AAEC-E9C88A9F5EF6}"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35CEC55D-1468-4D80-87E1-A4C53D811563}"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39ABFBFB-73E2-4724-AD31-1ECC4BEDBEDC}"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05E9DAA0-E7AB-4366-B43E-FAA31C6634C3}"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D9F6C89F-F8C7-41BD-A785-C12B5B7A648D}"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92228B3B-3F45-4208-9247-769CFC453256}"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7195C9E7-D5BB-4971-BB0C-46DBAA16AD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F0D30B85-481A-437E-A512-DA1F24EDCD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B2D34E41-3947-49F2-93EF-FEA135582A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3E409350-8B51-4D5A-BE26-FD3A482764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B84DBB02-6088-438A-AA24-D1B99357EED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E5D4B504-52F9-4FB6-92E1-7508927334F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49FBCEE0-E554-4C52-BB48-461E2F0A8EB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01600EA1-A651-4A26-8184-EEBB5F20E69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5332AEC0-C5E0-4E35-A5E4-2CA084D30C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2DE2AAD1-0FE8-4D7C-BA52-BB1D7454F5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FDB07EFB-6719-4BEE-AA81-9A2FC607B8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3D7EA831-9805-43C7-A44A-B1090107789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B3B887C5-C39A-447E-AB2A-958F7E2C7FEE}"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DA739E7B-E03F-46F4-918E-C3394DC2B6B6}"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32E44CDA-1790-409F-A59C-08FBB657435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2779ED19-0FD6-48EC-B324-E8B312D9753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6E4C1F6C-B7BF-4B2B-8827-76F3D88707AA}"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3FCD6E80-1174-4E61-902E-E4167315D4BB}"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4FAEA411-4700-4FD8-9EF7-A806C731CA47}"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09340977-FCA1-4FEC-9F13-10A7458417B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491099DE-A66B-4CC4-9067-0F688CF00EB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690DD8B7-0F63-4C10-A7AB-8159BF81484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F148071-62A9-4D75-ADE0-19DEC2C5FEA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976FE2DE-6D96-49FF-99A6-666073EA709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204519B6-8D76-4F92-BF75-4C73C76F3EB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4C590591-7410-497A-8C4F-430C7BDBCD3B}"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D7EB2552-8FD3-4305-AF8A-C4AC72182099}"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4D655E06-FA29-4E33-A2B4-999FCD1333BC}"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87867964-B4F9-47CB-B55A-4B886067561D}"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0C3946E9-44C9-4738-A49C-7E8B69EDAB66}"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DE6D48A9-6C55-42DC-B607-C2252059ECD4}"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08945416-104F-4337-8359-1E3CD7E7CB92}"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84735961-7C44-4D2D-B588-1A547C873363}"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10C6531-7F37-4599-BE48-E97FE0142B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210A1928-9877-4B4E-8C0E-122B9C9086E0}"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C66AAD54-199D-468F-8183-65A27363E1AB}"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72B40E69-1D3D-4053-A2C3-7667848C8436}"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41C518B1-8E24-40BD-98DC-32BA18CF21C4}"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C810F828-FDB5-4960-AEDD-4611FD8C9754}"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2BCD2061-9E03-423C-B401-E03380260AA4}"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5F85FFC4-13E2-4B73-BA1C-1DC29C5630E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3CE7B51D-ABCA-4282-B069-EF0C377DF42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02A2B614-CCC3-4AF3-9207-663550D68C6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677379F3-84BE-4D1A-BFBA-BA340E543FA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AE5A7C9-E2AA-459A-B49D-2E25424D07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E05E7F8B-1885-4D0B-A8DC-5FE731B6838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E0B39ADA-1A16-4236-8D11-AAD7EA7AB8D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0DCFE5CB-D273-40F7-9CB1-99FEB704D2E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282137EF-BA86-48D3-B8E4-C71DBB59CF9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8C605985-7628-43B1-82FA-407FCB32986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AB69FC37-1F99-412C-985B-533B884A34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758143FF-CF3D-45B6-8EF2-67EEABB90CA2}"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E2EBA4D1-2931-498F-9500-F26ACA706D20}"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BE93273E-A08C-4F9B-AFD3-CC8305084072}"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DA3947F5-7421-489D-8785-5645BCA1F26B}"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C10FE3F-D6BD-43A7-92F4-51007AF7C9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A0955337-52A5-4617-8B93-178D477DEACB}"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7DE07DF1-02A8-4F88-B1A1-2ECDC44E0151}"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5DEFDD5A-0C25-4D38-9C0A-C74400E7D737}"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FDBB86D7-BB53-454C-95CB-285207C3136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0A20B71A-51FF-445C-944C-E18124395F36}"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B19506F1-F8A5-4BCA-BA16-42F85668D2C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5D9C0B73-8DA2-41A7-B234-5D0A3D63488F}"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13C98131-9377-4DF3-BBE7-8D3780E19B6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53A2973B-82E6-47F4-B9E2-508D6D366FFF}"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58364A70-7A18-4E07-9AE7-32010C4F75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E7380EB9-AAE5-40C3-ABF3-977A1315CE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2BC18C-5B9F-4E23-BA44-F716808AC7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665B8C1-EEFE-4565-AC70-2E9861BE98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90E188-2B4E-432A-B2D1-F444B28F6F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CA8D8D-B814-48CB-A756-0C6479413D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797ADC-4B0B-4562-8ED2-83EB0B7578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B34C26A-7C51-4338-A381-DEEDA5C5AC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AFADA67-AA05-4584-8412-9CBA02288BB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F80B29B-5B33-49B7-B356-57AEC14CD368}"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1FB995C5-C5BD-4EDC-98C7-AE7022D3069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D0A1382A-3B32-4822-8D6E-6DC04503916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523B7E9B-B34C-474B-8732-5E67893C425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A3290C00-4D93-45ED-89A1-19307E0747DE}"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0D5A388-6CA7-44B4-B015-2F999BDE87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E382A5F5-46A6-4BA3-84D0-05D22C7B6F55}"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9800B170-61FF-4BE4-A7E5-34E25AFBB5C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171D384B-EE83-4FE4-82F4-04A705EF4CB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47E372C6-F7B7-410E-B29D-A1D96ABFB69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B3159EC8-A0B7-40F0-8059-3F6C4752565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C141FE0C-D67D-4A7B-9C40-636C373B5D0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3140C9F1-86C1-409D-A0C8-15B1FAAB5A1B}"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59FE121F-50A7-4C41-AE49-DCAD9A40D15F}"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DBD7212A-2C72-4664-8826-284C0C434E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BEC4B160-CD4C-4858-9CC1-1B50A418BB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20547B6F-F27E-428A-9500-B3553252D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DDDB16B2-BE9D-4916-A864-B921649653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3380BFA2-5F2B-41A5-8652-86AB9F34A7D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BF97921C-4F9F-4D31-8E87-9ADF7E9A47F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98BD5B40-10AC-48BA-BB2C-A2D41017DE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A2607B55-E4E2-4A42-970A-91D4F4F4F7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A4E125F8-823A-40AC-B6F1-73DC771394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D5CFFA2B-7ADA-4B2F-B52E-8AD3D83F9A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FDBE5286-CFC1-4519-B6B7-A74D2A3920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5405035F-BBCE-4E87-A48F-25E0D2B89BCF}"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85E9A259-7BF1-4F23-849B-9374753782A1}"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D773AEE3-4B8C-4AD6-B0A7-BDF390CFDE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2260A445-8CB4-4070-9554-BA4FA1BEF24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4DAF2DD5-BCD7-42A3-820A-D64B48AB22E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F5CA1EB7-D0DD-4CB7-8EE2-1CC0E6F18A6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033FB255-B119-47EB-9153-C7776C551AF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F1B2193E-ED8B-4C0F-B3B9-38954521D50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F8F8DE72-88F2-4491-A24A-4947741938A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1ABB7FE4-C286-4E18-88B8-AD78DF1BB47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70776667-6AAB-4D8C-B5AC-871EFCC40A1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421B71D7-34A1-43A3-8946-1A577AA11A1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8533C187-8AC5-4B12-AB13-9C969E66F90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C4263515-3CF2-47C2-B8EE-5B8887E4F2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9C25ACA6-FAC0-4EE4-B726-5C7CE4DD2300}"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D98B465C-A8F9-4592-A06F-D22D615C7396}"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7EF194BB-BBB6-40D5-BF27-814760CBB4A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AC4CF9BF-315A-424B-ACDC-0C098F8D212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0B2AAD40-24E9-46F5-A0B3-643053EA084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B6254820-3CC3-40FB-A56B-5F290F63A68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BB6E4F2D-937F-4FA9-A4D7-E59C83C2FB00}"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DF92A821-DDF3-41E4-9241-2C4479145D4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83B5B326-EB5F-4284-B5B7-76546E1D646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C6D88065-BD92-45C9-8EBD-E146903B748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ECAB2DC-E00F-45D2-A969-E20A4D5FD7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B243BA45-E130-4ED7-9B9E-0C79DFB03C6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B5530C00-7B5A-4510-9684-034858E4711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C069C29F-E250-48BF-A963-CEE9547E1303}"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C51D7603-9EBC-4C7F-9962-4D56D155E7D9}"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60B7737A-C443-47CE-B2D6-BAC0846ABA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C4CA201B-01CF-4D12-B15C-CA6901A4D1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EE7D30B1-985E-4442-B24F-9C87B83A63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628AAD67-0A93-4155-B199-9D51180BA02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0723A598-57C8-4283-9CF0-829421CBE7A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8B21DCD5-CCB0-41B1-9CD9-ED1E9EB1F1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EE0032A-57AF-4B7E-B854-0981C0D951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8FCAF3F4-9EE8-43BE-AF24-02C5AAB437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CD39D801-C869-43B3-A1A7-367343BA44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FDB01A57-4B4B-4521-AA61-4FD3015C85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F01D83BD-BBE1-40AA-9C43-854D88FF40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5257E3CF-02C6-46B3-8444-9AF765A158D8}"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44CC3EB3-379C-4FD1-8F7E-518556E8159A}"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6B59CFC7-0F7B-421B-8355-55513E376F2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664C2905-3B78-4FB6-871B-00D32067BF1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867BB66D-4447-4E66-82FA-356E17A5F65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2F9F4A2A-D0C0-495F-9D01-DC2898B5E348}"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6FA9C4D-0715-4FDC-955D-E6077841B9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D156ED27-EA65-4DA3-B2AD-A85D51A1583E}"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D540EB60-3999-4972-8F95-FBFC5C1E95C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972830E5-8EFE-4170-A6BF-DE6BA8AD075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1BFE6AAF-9516-4737-8C8E-DD4C7D0F87D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4185F156-D501-46AB-B901-CFECCB8ACB2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5E1BD46A-DD76-44C0-A3F9-C286ED99249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E1DB0C3F-D720-43FB-A355-EEB47339B706}"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EA0C1F31-9288-4540-BE8F-8EFC8888AF08}"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89E6F1F4-7F72-40D2-AB70-FD43E1947498}"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38ED0F5D-D0E3-4507-B824-A493CC41A784}"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01806-EE2E-45E6-B389-4FC59F8D14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B1079-E6C3-4100-912E-49580CE4FF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9E27F-3288-4DC5-A4C0-D3227F616A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0B4DC-A1E6-4065-8636-602B6093A1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889AC-B8B3-4154-892C-9A3848E178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04120-3BA4-45B0-8263-90C5488FB1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30977-FABA-4C40-8C39-2FD41CD982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4C316-F348-49A1-A2FF-2A8C3DCFC0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6DB93-1D42-4826-952E-7E8AC4D2EB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8FBCA-F862-4375-8AA8-70B399FF6A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45D20-38E5-4E36-A685-C7F83FBAA1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D4565-99AF-43B8-9DAA-6238D54FA8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5B8A1-236F-461B-B7FB-2BADC99D6B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50BA7-96CE-4216-AB58-94FF7C8FE5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06694-3BD1-4D01-9371-C04B4193AF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D3898-68D3-48C5-BDD7-A7ECF8E7DC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36C3B-B92B-498E-AD66-CBD0881ACC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12CA6-3FBA-4310-A0EC-C07F7086D2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34E5D-D8F3-4503-975C-C3C2087E2A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603D3-6064-4C08-BDA2-3E394659C8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20CCE-F221-466D-A2E4-F2088D0B61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A4261-A27B-43F6-9C62-863B813253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3F738-B26C-4363-BB6E-A32B1ACC95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18236-30FC-4C05-85D7-30F8DE89BE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CDB1E-4E77-4604-AFC2-8C0E7E518E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96E8A-5DD5-4133-B3B9-B478DE7169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A6675-9E7A-4775-BE65-8A2BBB7E3C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A594D-5508-43B0-8547-42B209FA82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8BCD3-E87E-403C-B3B8-0FFBC725F2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60256-4495-4C50-86A1-3E665F370E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C4C07-DA7A-447F-8266-07D23FECF8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E37EF-9071-47EF-852F-E0D5AFD07A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6608F-5646-40DB-8469-DB55876805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598BA-BA06-436D-8F82-960BB34EC5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F2D27-7E65-4D17-9769-923A1B2501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0A598-90D6-45AE-BD69-8AD28FF455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13E17-522F-4DFB-8E0A-63D25F0FEA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76ADE-DD95-4497-A7FD-6D863925ED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