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2153-A98E-4E7F-8028-398D396C550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8257-3A5E-4ED5-9CFB-C88238297E9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4715-BD51-4895-AAD8-67AA33BF8A2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AF40-D649-4F15-B73C-B9085BF1430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884E-E353-4A86-9C6C-9F1F2B9F46D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0927-5023-44D7-B040-3C9C1DDC337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8B24-F14E-4BA7-A4DF-EF9E25CED3E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27DD-8B7E-420B-BBE8-087CED4CF4C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1774-DC51-43D2-B5B8-83424A74FDF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2C3C-0670-41B0-95E5-9849973FA3D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D988-5C97-47DB-8645-B1735D44F2F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BE97-7FD5-462F-8915-B8AEE6AD340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3EBA-4973-4CBE-9637-73479A8F86A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3F31-6792-44BF-B377-987BE63FDCD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139D-C639-4523-9D33-41555CEF14F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53DC-987A-4198-8A28-6764207D3C0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433F-52BE-42C0-9E67-46BE4292C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08E5-8ABC-4B05-BFB9-A59814C8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333C-52C8-4488-ACD2-E60FECBDD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E4F1-8D6D-4466-9BE5-E73BBAEEF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1E30-F1F1-4AA0-A1D9-077AAB0DE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37FA-E45F-4355-9700-2A84BFA2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8C4C-956D-42FC-A70A-AE4DF2EC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75C5-CEAE-4391-9744-C039FE20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89D5-8ABE-4849-A52A-97A56293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647E-E61B-4D1D-B813-07AF2142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5E41C-F703-42E8-B032-037DCC10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191F-8927-4E8A-B0B5-BB2179CA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889E-F235-4856-B8C5-A79B7A4A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6172-FE43-4529-803D-951D50CE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89D1-3BDF-4B21-86F3-8098D895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101D-DDBD-47C9-91A4-BF4B7672B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105BE-54E5-4EFE-A8D1-46E74D2D3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8D4C-FA32-4BA4-B511-30E594C6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0528-514E-4252-9E5F-F51E78E7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00B3-CF87-495B-AA22-0AE694D2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D32F-8CD7-47B4-9D4B-46EA3958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6F23-6DAF-494F-9FAB-1ADB7E72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E70A-272B-425F-A641-26D4C39E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C251-4E78-4854-A475-2B0A6CAA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8DE4-8B1F-4BD5-AE2F-C4042539C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EC42-8F78-4AC6-A090-221802DEE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356920"/>
            <a:ext cx="61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cc"/>
                </a:solidFill>
                <a:latin typeface="HY울릉도M"/>
                <a:ea typeface="HY울릉도M"/>
              </a:rPr>
              <a:t>사회복지의 사상과 역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5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식민시대의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1476360" y="1268280"/>
            <a:ext cx="669276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공공부조제도의 시행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조선의 경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부조교정」이 최초의 공공부조법이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4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조선구호령」에 의해 대체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의 경우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87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최초의 구빈법인 휼구규칙이 제정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 구호법이 제정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0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실업문제와 취로사업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: 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궁민구제토목사업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에서 구호법이 시행되기 시작하던 시기에 조선에서 시행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궁민구제토목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주목할 만한 사업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시행된 농촌의 인프라 정비와 취로사업이라는 두 개의 목적을 가진 사업이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선인 노동자는 일본인 노동자의 절반 정도의 임금을 받는 등의 차별처우가 여전히 있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사업 자체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간의 단기사업이었다는 한계가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3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1476360" y="1268280"/>
            <a:ext cx="6692760" cy="49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구빈행정의 정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이후 구휼 및 자선사업은 총독부의 지방국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방과에서 담당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내무국에 사회과가 신설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과가 담당하는 사회사업의 범주에는 사회교육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임시적 사회구제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반사회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보호사업 등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포함되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사회과는 내무국에서 학무국으로 개편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때 종래의 구빈방빈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건진료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아동보호부문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노동보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농촌진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자력갱생운동 등의 사회교화사업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급속하게 확장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6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476360" y="1268280"/>
            <a:ext cx="669276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각도에 사회과가 신설되어 전국적인 전달체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만들어졌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194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사회과에서 노동행정사무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분리하여 노무과가 신설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체제가 해방 때까지 이어졌고  한국사회복지전달체계의 기초가 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9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476360" y="1268280"/>
            <a:ext cx="669276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국가시설운영과 민간시설보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상의 공공전달체계와는 별도로 총독부 직속사업으로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생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의해 제생원이 설치되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육부와 맹아부로 나누어서 아동과 장애아동을 보호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개항 이후 조선에는 선교사들이 중심이된 다수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시설이 설립되어 있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복지실천에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해서는 정부보조금이 지급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조금제도를 활용하여 민간에 복지사업을 위탁하게 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형식은 사회복지시설의 운영에 국한된 것이 아니라 일시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사업에 있어서도 행해짐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2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476360" y="1268280"/>
            <a:ext cx="669276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방면위원제도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도의 기원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오카야마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세고문제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오사카부방면위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근거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은 민간독지가의 신분으로서 빈곤자의 생활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사하고 필요한 원조를 제공하였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배경에 자본주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모순에 의한 사회불안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의 임무는 지역 내의 빈곤생활자 조사를 위시하여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와 관련된 제반 조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476360" y="1268280"/>
            <a:ext cx="66927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사회복지의 기반과 유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커밍스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2012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는 일제가 남긴 것으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비교적 잘 발달된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교통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세계시장시스템과 조선을 연결시킨 것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근대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술을 가진 인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고도로 체계화된 관료조직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들고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중에서도 중요한 것은 조직된 관료조직과 기본교육의 보급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제도의 기반에 관한 부분에서는 호적제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확립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백정의 신분도 호적을 갖게 됨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미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영역에서는 자본주의적 경제질서가 강화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유재산제도가 정착되어 갔으며 사법의 영역에서는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법치적 문화가 강화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476360" y="1268280"/>
            <a:ext cx="66927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잔여적 복지모형과 사회복지의 새로운 시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복제실천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바람직한 복지실천의 모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시하지 못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결국 그것을 통하여 선별주의적이고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잔여적인 복지모델을 한국 사회에 이식하는 결과를 가져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복지제도의 발전이라고 볼 수 있는 변화의 조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에 대한 새로운 대처방식이 시도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문제에 대한 과학적인 조사가 진척되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빈곤이나 장애인문제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주택문제 등에 관한 기초자료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축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20920" y="2572920"/>
            <a:ext cx="613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HY울릉도M"/>
                <a:ea typeface="HY울릉도M"/>
              </a:rPr>
              <a:t>Thank you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-Next-</a:t>
            </a:r>
            <a:r>
              <a:rPr b="0" lang="ko-KR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6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미군정기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전쟁과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2" name="제목 1"/>
          <p:cNvSpPr/>
          <p:nvPr/>
        </p:nvSpPr>
        <p:spPr>
          <a:xfrm>
            <a:off x="1432080" y="360360"/>
            <a:ext cx="7407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룰 내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부제목 2"/>
          <p:cNvSpPr/>
          <p:nvPr/>
        </p:nvSpPr>
        <p:spPr>
          <a:xfrm>
            <a:off x="1432080" y="1700280"/>
            <a:ext cx="75895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속성과 단절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1476360" y="1268280"/>
            <a:ext cx="669276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 직전의 조선사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시기 민중의 생활은 극도로 피폐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삼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三政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문란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紊亂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이 시대의 사회상을 적나라하게 보여주며 농사에 대한 세금과 군역의 의무에 관해서 관리들은 온갖 구실을 붙여서 법으로 정해진 세금 이상의 부담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에 지웠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반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의 피를 빨아먹는 기생충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라고 표현한 서양인 여행자의 표현은 오히려 자비스러울 정도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476360" y="1268280"/>
            <a:ext cx="669276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근대화론과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개발 없는 개발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의 검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9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을 전후하여 한국에서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근대화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기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논의는 식민지수탈론자들에 의한 역사왜곡을 지적하고 지나친 그들의 민족주의적 관점을 비판하여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안이하고 감정적인 역사연구의 경향에 경종을 울렸다는 점에서는 의미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있는 논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476360" y="1268280"/>
            <a:ext cx="669276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사회복지의 시각에서 볼 때 식민지근대화론자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   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주장에 받아들이기 어려운 논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리주의적이라는 점에서 비판의 여지가 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산업혁명에 관한 토인비와 아슈톤의 논쟁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상시키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의 상태는 반드시 통계자료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해서는 증명하기 어려운 무엇이 있다는 중요한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실을 그 논쟁이 상기시켜주기 때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476360" y="1268280"/>
            <a:ext cx="669276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지조사와 그 영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일제는 막대한 자금과 인력을 투입하여 식민지조선에 대한 대대적이고 철저한            토지조사를 실시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토지조사의 목적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식민지를 상대로 한 토지조사이므로 그 것이 넓은 의미에서 수탈을 위한 조사였다는 것은 명약관화한 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소유를 명확하게 하고 소유자에게 법적인 권리를 부여하는 것은 근대자본주의의 근간을 이루는 사유권 절대의 원칙이 실현된 것으로 볼 수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현실적으로 볼 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조사는 식민통치의 재원이 되는 토지세를 확보하기 위한 조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1476360" y="1268280"/>
            <a:ext cx="6692760" cy="22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빈곤의 심화와 소작농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경제적 배경으로 발생하는 빈곤으로서 중시할 것은 소작농의 급증과 도시빈민층의 형성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 한국의 소작농은 세계에서도 유례를 찾아보기 힘든 극도의 착취와 비참한 생활을 하였다고 지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73771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막민문제에 관하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 이후 도시빈곤의 상징과 같은 것이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존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은 단순한 빈곤층의 생성이라는 것뿐 아니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 사회의 전통적인 주거의 열악성을 상징하는 것으로 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토지조사가 끝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가 되면 몰락한 농민이 농촌을 떠나게 되면서 토막민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집단주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가 형성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476360" y="1268280"/>
            <a:ext cx="66927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시대의 시기구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①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무단통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10~19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문화정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20~19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륙침략병참기지기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은사금이라는 사회복지 재원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은사금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직접 사업비로 사용하는 것이 아니라 그것을 기금으로 삼고 그 이자수입으로 사업비를 충당하는 형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사금의 용도 중 가장 큰 몫을 차지하는 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수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授産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과 교육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근구제의 항목인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항목은 사회복지사업과 직접적으로 관련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4:24:23Z</dcterms:created>
  <dc:creator>LG</dc:creator>
  <dc:description/>
  <dc:language>en-US</dc:language>
  <cp:lastModifiedBy>LG</cp:lastModifiedBy>
  <dcterms:modified xsi:type="dcterms:W3CDTF">2014-03-18T07:35:34Z</dcterms:modified>
  <cp:revision>539</cp:revision>
  <dc:subject/>
  <dc:title>사회복지의 사상과 역사</dc:title>
</cp:coreProperties>
</file>